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3AA-D3B5-4D6B-8955-5E2F548D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60E-8AC1-4B88-8B9C-D70FE7DC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96A9-B102-4270-9F62-FC95BB2C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B9A-E496-430B-B2B5-3261CBD9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9C8-0402-4AD0-AC31-3553F13B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43D1-4F6C-46F2-B674-360DBA73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8D5-2E6C-489A-B180-E58D1C5A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412-7865-430F-A195-E2D6573B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420-405B-4EF7-A767-5101418F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C26-43F8-4D3F-9012-4D410073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960-4A72-4231-90AD-E615CB96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134-2B32-4180-A1BF-12EE800C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2AD5-74C9-4FCA-90FC-BFB6C42E3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HYBRID DESIGNS</a:t>
            </a:r>
            <a:br>
              <a:rPr sz="6000"/>
            </a:b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Part 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9343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2360" y="1143000"/>
            <a:ext cx="801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Incomplete Desig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re studies in which information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missing on one or more relevant fac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6080" y="3352680"/>
            <a:ext cx="799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wo 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a800"/>
                </a:solidFill>
                <a:latin typeface="Times New Roman"/>
              </a:rPr>
              <a:t>Ecologic 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ee36ee"/>
                </a:solidFill>
                <a:latin typeface="Times New Roman"/>
              </a:rPr>
              <a:t>Proportional (Morbidity or Mortality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36ee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ee36ee"/>
                </a:solidFill>
                <a:latin typeface="Times New Roman"/>
              </a:rPr>
              <a:t>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352680"/>
            <a:ext cx="7924680" cy="2438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858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705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629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10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10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0-02T17:25:55Z</dcterms:modified>
  <cp:revision>110</cp:revision>
  <dc:subject/>
  <dc:title>The Art in the State of the Art</dc:title>
</cp:coreProperties>
</file>